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5D0A-8CE6-4FBD-AD28-34846774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AA7-D5A8-46A9-8FAF-F41DC1C1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A0F0-EC22-476E-86E1-E4DE61295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D0C-45B2-4C38-B4AC-4BC02EEB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B8EC-4A65-48F5-81A2-5C8BACDF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7763-F0C8-4D68-9439-4694F45F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891-0CA8-46A0-BFB5-227B6038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E941-1605-441B-B9BF-EA03D25F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2C26-1AE7-46A2-96A5-A1AE08892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AF8-9451-4248-839A-E114547D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087-37AC-4181-85CF-9511CB82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28E-AE58-412A-B266-8E269138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1C1-DAF5-408E-928B-2B7DED8C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A86-D7A2-4063-875A-6972987D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3E2B-E794-42E8-B257-13AB413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00AB-E198-49A5-853A-CD4867F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5949-C4AB-4F12-A72C-E67CB86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4D75-FEEA-4590-B9A2-4ED250A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D5CA-917A-4365-830A-F9CB263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B41-776B-42D8-AEAB-38D8161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5C9-5843-41C5-BF1B-465AFA41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D4C-A930-4C5E-8BCD-1FCFC92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E207-28D6-4199-BB5B-CBA0127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9120-008E-402D-A5E0-6E293EB7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AA67-7F68-4053-A6D5-0DB002C0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346-E59A-4CC1-A26B-4FEDABE2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AF3-A199-4DDF-9F81-8F6CB314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E51-9D0F-4E8B-AD6D-8341B56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2B1-2EAF-44E8-93F7-D097D59E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74F-56E9-448C-94E1-8BA8AB2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047-759C-43F5-94BB-845AFAA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A04-92C9-43FF-9A93-6732846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DDE-023E-410B-9101-87A38A3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E75-4550-4A7D-9733-952A8BF7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714-8537-4740-90DD-9C0E23444D2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INY sample language and it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 scann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1 The TINY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descrip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 is a sequence of statements separated by semicol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rocedures and no decla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ariables are integer variables, and variables are declared by assigning values to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ntrol statements: if-statement and repeat-statement, read and write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and integer arithmetic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are allowed within curly br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sample program in TINY language- computes factorial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x;  { input an integer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0&lt;x then  { d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compute if x&lt;=0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:=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 := fact*x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:= x-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x=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fact; {output factorial of x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43160" y="3808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4920" y="2819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 Implementation of a TINY Scann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2.1 Implementing a Scanner for the Sample Language TIN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xical structure of TI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971800"/>
          <a:ext cx="8001000" cy="2060640"/>
        </p:xfrm>
        <a:graphic>
          <a:graphicData uri="http://schemas.openxmlformats.org/drawingml/2006/table">
            <a:tbl>
              <a:tblPr/>
              <a:tblGrid>
                <a:gridCol w="3124080"/>
                <a:gridCol w="3124080"/>
                <a:gridCol w="1752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rved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n else 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 unt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 w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     -     *    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     &lt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)     ;    :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a DFA for the scanner direc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ccepting states are collected into one st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e different token recognized is saved in a vari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a table of reserved words, reserved words are considered only after an identifier has been recognized, and then to look up the identifier in th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mplementation of the DFA uses the doubly nested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0:34:30Z</dcterms:created>
  <dc:creator>刘欣欣</dc:creator>
  <dc:description/>
  <dc:language>en-US</dc:language>
  <cp:lastModifiedBy>Chengwen Luo</cp:lastModifiedBy>
  <dcterms:modified xsi:type="dcterms:W3CDTF">2017-03-28T12:50:40Z</dcterms:modified>
  <cp:revision>123</cp:revision>
  <dc:subject/>
  <dc:title>1.5 The TINY Sample Language and Compiler</dc:title>
</cp:coreProperties>
</file>